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0306-930C-43F0-B292-30DE398B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06EB-162E-42FB-A73F-BBBA7E35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29D-2600-4438-BCD2-18795259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00FB-906D-4448-B0A8-CA0E8F1D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042-D61E-4B19-B91B-DDF60F81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E7B-309B-4CA8-B84B-FC5634E9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A73-142E-475F-8488-B95D4B53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532C-F177-4186-ABD7-83188272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434B-36C6-4AAE-A500-4BEE7ECA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FC7-0528-4290-B4C9-F72DB045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D7C-EB91-486B-BD7B-CB75978F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51D1-0B4A-4EDB-9FC0-A75251BC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AF04-4591-42FB-AE61-598C77604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14800" y="609552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achel, Sam and Raf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6"/>
          <p:cNvGrpSpPr/>
          <p:nvPr/>
        </p:nvGrpSpPr>
        <p:grpSpPr>
          <a:xfrm>
            <a:off x="533520" y="609480"/>
            <a:ext cx="7691400" cy="5543640"/>
            <a:chOff x="533520" y="609480"/>
            <a:chExt cx="7691400" cy="5543640"/>
          </a:xfrm>
        </p:grpSpPr>
        <p:pic>
          <p:nvPicPr>
            <p:cNvPr id="43" name="Picture 3" descr="http://images.tutorvista.com/content/biotic-community/lithosere-trends-sucession.jpeg"/>
            <p:cNvPicPr/>
            <p:nvPr/>
          </p:nvPicPr>
          <p:blipFill>
            <a:blip r:embed="rId1"/>
            <a:stretch/>
          </p:blipFill>
          <p:spPr>
            <a:xfrm>
              <a:off x="533520" y="609480"/>
              <a:ext cx="7691400" cy="55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4"/>
            <p:cNvSpPr/>
            <p:nvPr/>
          </p:nvSpPr>
          <p:spPr>
            <a:xfrm>
              <a:off x="2819520" y="5791320"/>
              <a:ext cx="28954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thosphere Succ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Stag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4572000"/>
            <a:ext cx="4724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a geologic event, bare rock is exposed to the environ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oneer organis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uch as lichens, are the first to inhabit the 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che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ive off acid, which degrades the rock into so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MVC-006F"/>
          <p:cNvPicPr/>
          <p:nvPr/>
        </p:nvPicPr>
        <p:blipFill>
          <a:blip r:embed="rId1"/>
          <a:stretch/>
        </p:blipFill>
        <p:spPr>
          <a:xfrm>
            <a:off x="4876920" y="4724280"/>
            <a:ext cx="2133360" cy="16002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6"/>
          <p:cNvGrpSpPr/>
          <p:nvPr/>
        </p:nvGrpSpPr>
        <p:grpSpPr>
          <a:xfrm>
            <a:off x="380880" y="990720"/>
            <a:ext cx="7925040" cy="2876400"/>
            <a:chOff x="380880" y="990720"/>
            <a:chExt cx="7925040" cy="2876400"/>
          </a:xfrm>
        </p:grpSpPr>
        <p:pic>
          <p:nvPicPr>
            <p:cNvPr id="50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80880" y="990720"/>
              <a:ext cx="792504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4"/>
            <p:cNvSpPr/>
            <p:nvPr/>
          </p:nvSpPr>
          <p:spPr>
            <a:xfrm>
              <a:off x="273636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" name="Picture 6" descr="http://www.extension.umn.edu/gardeninfo/diagnostics/images/linden/disease/lichen1_600px.jpg"/>
          <p:cNvPicPr/>
          <p:nvPr/>
        </p:nvPicPr>
        <p:blipFill>
          <a:blip r:embed="rId3"/>
          <a:stretch/>
        </p:blipFill>
        <p:spPr>
          <a:xfrm>
            <a:off x="7086600" y="3886200"/>
            <a:ext cx="17193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54" name="Picture 3" descr="http://images.tutorvista.com/content/biotic-community/lithosere-trends-sucession.jpeg"/>
            <p:cNvPicPr/>
            <p:nvPr/>
          </p:nvPicPr>
          <p:blipFill>
            <a:blip r:embed="rId4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" name="Straight Arrow Connector 8"/>
          <p:cNvCxnSpPr>
            <a:stCxn id="47" idx="0"/>
          </p:cNvCxnSpPr>
          <p:nvPr/>
        </p:nvCxnSpPr>
        <p:spPr>
          <a:xfrm flipH="1" flipV="1">
            <a:off x="2285280" y="3504600"/>
            <a:ext cx="30564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4343400"/>
            <a:ext cx="4495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ce a small amount of soil is present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y start to grow on in the 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moss dies and decays, organic matter is added to to so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oil progressively becomes thicker and contains more nutri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VC-004F"/>
          <p:cNvPicPr/>
          <p:nvPr/>
        </p:nvPicPr>
        <p:blipFill>
          <a:blip r:embed="rId1"/>
          <a:stretch/>
        </p:blipFill>
        <p:spPr>
          <a:xfrm>
            <a:off x="4876920" y="4572000"/>
            <a:ext cx="2082600" cy="1562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static.ddmcdn.com/gif/irish-moss-1.jpg"/>
          <p:cNvPicPr/>
          <p:nvPr/>
        </p:nvPicPr>
        <p:blipFill>
          <a:blip r:embed="rId2"/>
          <a:stretch/>
        </p:blipFill>
        <p:spPr>
          <a:xfrm>
            <a:off x="7010280" y="4572000"/>
            <a:ext cx="1943280" cy="154944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62" name="Picture 3" descr="http://images.tutorvista.com/content/biotic-community/lithosere-trends-sucession.jpeg"/>
            <p:cNvPicPr/>
            <p:nvPr/>
          </p:nvPicPr>
          <p:blipFill>
            <a:blip r:embed="rId3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" name="Straight Arrow Connector 8"/>
          <p:cNvCxnSpPr>
            <a:stCxn id="58" idx="0"/>
          </p:cNvCxnSpPr>
          <p:nvPr/>
        </p:nvCxnSpPr>
        <p:spPr>
          <a:xfrm flipV="1">
            <a:off x="2551680" y="3276000"/>
            <a:ext cx="10288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3760" y="502920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the herbs die, they are decomposed and add nutrients to the soi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produces a layer of organic matter on surface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ich helps the germination of grasses such as Poa and Eleus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MVC-011F"/>
          <p:cNvPicPr/>
          <p:nvPr/>
        </p:nvPicPr>
        <p:blipFill>
          <a:blip r:embed="rId1"/>
          <a:stretch/>
        </p:blipFill>
        <p:spPr>
          <a:xfrm>
            <a:off x="133200" y="3906720"/>
            <a:ext cx="2244960" cy="233532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69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Rectangle 3"/>
          <p:cNvSpPr/>
          <p:nvPr/>
        </p:nvSpPr>
        <p:spPr>
          <a:xfrm>
            <a:off x="0" y="5334120"/>
            <a:ext cx="3657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rock continues to break down, soil continues to thick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rbs will start to grow when the soil is thick enoug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MVC-008F"/>
          <p:cNvPicPr/>
          <p:nvPr/>
        </p:nvPicPr>
        <p:blipFill>
          <a:blip r:embed="rId3"/>
          <a:stretch/>
        </p:blipFill>
        <p:spPr>
          <a:xfrm>
            <a:off x="6754680" y="3602160"/>
            <a:ext cx="2181240" cy="2268360"/>
          </a:xfrm>
          <a:prstGeom prst="rect">
            <a:avLst/>
          </a:prstGeom>
          <a:ln w="0">
            <a:noFill/>
          </a:ln>
        </p:spPr>
      </p:pic>
      <p:cxnSp>
        <p:nvCxnSpPr>
          <p:cNvPr id="73" name="Straight Arrow Connector 10"/>
          <p:cNvCxnSpPr>
            <a:stCxn id="71" idx="0"/>
          </p:cNvCxnSpPr>
          <p:nvPr/>
        </p:nvCxnSpPr>
        <p:spPr>
          <a:xfrm flipV="1">
            <a:off x="1827720" y="2895480"/>
            <a:ext cx="25916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11"/>
          <p:cNvCxnSpPr/>
          <p:nvPr/>
        </p:nvCxnSpPr>
        <p:spPr>
          <a:xfrm flipH="1" flipV="1">
            <a:off x="4876200" y="2971440"/>
            <a:ext cx="236268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41907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rough the growth of these species, the rock become more weathered as the roots break up the lock layer and develop the soil lay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MVC-004F"/>
          <p:cNvPicPr/>
          <p:nvPr/>
        </p:nvPicPr>
        <p:blipFill>
          <a:blip r:embed="rId1"/>
          <a:stretch/>
        </p:blipFill>
        <p:spPr>
          <a:xfrm>
            <a:off x="347760" y="5278320"/>
            <a:ext cx="2730240" cy="240192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79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Straight Arrow Connector 8"/>
          <p:cNvCxnSpPr>
            <a:stCxn id="82" idx="0"/>
          </p:cNvCxnSpPr>
          <p:nvPr/>
        </p:nvCxnSpPr>
        <p:spPr>
          <a:xfrm flipH="1" flipV="1">
            <a:off x="5943240" y="2742840"/>
            <a:ext cx="99144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TextBox 14"/>
          <p:cNvSpPr/>
          <p:nvPr/>
        </p:nvSpPr>
        <p:spPr>
          <a:xfrm>
            <a:off x="5257800" y="40384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llows shrub roots to grow further into the rock layer, shrubs such as Rhus and Caparis begin to grow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http://www.teline.fr/var/teline/storage/images/teline/photographies/toutes-les-familles/anacardiaceae/rhus-albida/rhus-albida-3/2016-1-fre-FR/Rhus-albida-3.jpg"/>
          <p:cNvPicPr/>
          <p:nvPr/>
        </p:nvPicPr>
        <p:blipFill>
          <a:blip r:embed="rId3"/>
          <a:stretch/>
        </p:blipFill>
        <p:spPr>
          <a:xfrm>
            <a:off x="5626080" y="4973760"/>
            <a:ext cx="2908440" cy="2854080"/>
          </a:xfrm>
          <a:prstGeom prst="rect">
            <a:avLst/>
          </a:prstGeom>
          <a:ln w="0">
            <a:noFill/>
          </a:ln>
        </p:spPr>
      </p:pic>
      <p:cxnSp>
        <p:nvCxnSpPr>
          <p:cNvPr id="84" name="Straight Arrow Connector 18"/>
          <p:cNvCxnSpPr/>
          <p:nvPr/>
        </p:nvCxnSpPr>
        <p:spPr>
          <a:xfrm flipV="1">
            <a:off x="1904040" y="2666520"/>
            <a:ext cx="3886920" cy="152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38098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the soil becomes rich enough, deciduous trees start to gr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aves are shed each year and are degraded to add nutrients to the so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Mvc-005f"/>
          <p:cNvPicPr/>
          <p:nvPr/>
        </p:nvPicPr>
        <p:blipFill>
          <a:blip r:embed="rId1"/>
          <a:stretch/>
        </p:blipFill>
        <p:spPr>
          <a:xfrm>
            <a:off x="3706920" y="4443480"/>
            <a:ext cx="2163600" cy="33894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89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TextBox 7"/>
          <p:cNvSpPr/>
          <p:nvPr/>
        </p:nvSpPr>
        <p:spPr>
          <a:xfrm>
            <a:off x="5943600" y="4572000"/>
            <a:ext cx="3048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fter time, the vegetation becomes mesophytic  (only needing a small amount of water) Finally, a dynamic equilibrium between the abiotic and biotic factors is reach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Straight Arrow Connector 8"/>
          <p:cNvCxnSpPr>
            <a:stCxn id="86" idx="0"/>
          </p:cNvCxnSpPr>
          <p:nvPr/>
        </p:nvCxnSpPr>
        <p:spPr>
          <a:xfrm flipV="1">
            <a:off x="2133720" y="2742480"/>
            <a:ext cx="487728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Straight Arrow Connector 9"/>
          <p:cNvCxnSpPr>
            <a:stCxn id="91" idx="0"/>
          </p:cNvCxnSpPr>
          <p:nvPr/>
        </p:nvCxnSpPr>
        <p:spPr>
          <a:xfrm flipH="1" flipV="1">
            <a:off x="7238160" y="2894760"/>
            <a:ext cx="22932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max Forest - The End of Succ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ually a matu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erate deciduous for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ynamic equilibrium between the biotic and abiotic factors is reach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MVC-006F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uccession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743200" y="1371600"/>
            <a:ext cx="3733920" cy="47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Primary Succession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occurs  over the course of many thousands of ye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Rock must be broken down to form so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Lichens are the pioneer organisms that first live on bare r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As soil develops the types of plants and animals that inhabit the area gradually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Eventually a climax forest develo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01:15:46Z</dcterms:created>
  <dc:creator>Gateway Valued Customer</dc:creator>
  <dc:description/>
  <dc:language>en-US</dc:language>
  <cp:lastModifiedBy>sbukit</cp:lastModifiedBy>
  <dcterms:modified xsi:type="dcterms:W3CDTF">2012-11-07T01:49:05Z</dcterms:modified>
  <cp:revision>16</cp:revision>
  <dc:subject/>
  <dc:title>Primary Succession </dc:title>
</cp:coreProperties>
</file>