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1BD-E2AA-417A-AA03-35E77D57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256-7820-42E4-A4C8-27BDC1EE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F87-46BE-45E9-A929-ABBD774D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A20-ECD1-4C55-8683-43FAD274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096-27A0-462F-83A9-8AA1931E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435-D8EA-40E6-BD05-B0233EC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D4D-1BDF-4C80-88E1-CA957B01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046-C1BC-49F7-A635-4254DD0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108-1526-4131-916B-DDE61FD5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492-BD0D-4B15-AE2D-3487EE0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5B8-DE04-4168-A4EF-9D4CFFA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AF5-5C0B-4DB7-A26D-E88A1DA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41D-BC7A-4478-B8F1-E29FD025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14800" y="60955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hel, Sam and Ra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533520" y="609480"/>
            <a:ext cx="7691400" cy="5543640"/>
            <a:chOff x="533520" y="609480"/>
            <a:chExt cx="7691400" cy="5543640"/>
          </a:xfrm>
        </p:grpSpPr>
        <p:pic>
          <p:nvPicPr>
            <p:cNvPr id="43" name="Picture 3" descr="http://images.tutorvista.com/content/biotic-community/lithosere-trends-sucession.jpeg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76914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4"/>
            <p:cNvSpPr/>
            <p:nvPr/>
          </p:nvSpPr>
          <p:spPr>
            <a:xfrm>
              <a:off x="2819520" y="5791320"/>
              <a:ext cx="2895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thosphere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geologic event, bare rock is exposed to the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oneer org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as lichens, are the first to inhabi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 off acid, which degrades the rock in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MVC-006F"/>
          <p:cNvPicPr/>
          <p:nvPr/>
        </p:nvPicPr>
        <p:blipFill>
          <a:blip r:embed="rId1"/>
          <a:stretch/>
        </p:blipFill>
        <p:spPr>
          <a:xfrm>
            <a:off x="4876920" y="4724280"/>
            <a:ext cx="21333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380880" y="990720"/>
            <a:ext cx="7925040" cy="2876400"/>
            <a:chOff x="380880" y="990720"/>
            <a:chExt cx="7925040" cy="2876400"/>
          </a:xfrm>
        </p:grpSpPr>
        <p:pic>
          <p:nvPicPr>
            <p:cNvPr id="50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79250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"/>
            <p:cNvSpPr/>
            <p:nvPr/>
          </p:nvSpPr>
          <p:spPr>
            <a:xfrm>
              <a:off x="273636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6" descr="http://www.extension.umn.edu/gardeninfo/diagnostics/images/linden/disease/lichen1_600px.jpg"/>
          <p:cNvPicPr/>
          <p:nvPr/>
        </p:nvPicPr>
        <p:blipFill>
          <a:blip r:embed="rId3"/>
          <a:stretch/>
        </p:blipFill>
        <p:spPr>
          <a:xfrm>
            <a:off x="7086600" y="3886200"/>
            <a:ext cx="17193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54" name="Picture 3" descr="http://images.tutorvista.com/content/biotic-community/lithosere-trends-sucession.jpeg"/>
            <p:cNvPicPr/>
            <p:nvPr/>
          </p:nvPicPr>
          <p:blipFill>
            <a:blip r:embed="rId4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" name="Straight Arrow Connector 8"/>
          <p:cNvCxnSpPr>
            <a:stCxn id="47" idx="0"/>
          </p:cNvCxnSpPr>
          <p:nvPr/>
        </p:nvCxnSpPr>
        <p:spPr>
          <a:xfrm flipH="1" flipV="1">
            <a:off x="2285280" y="3504600"/>
            <a:ext cx="305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mall amount of soil is present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start to grow on in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moss dies and decays, organic matter is added to 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il progressively becomes thicker and contains more nutri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VC-004F"/>
          <p:cNvPicPr/>
          <p:nvPr/>
        </p:nvPicPr>
        <p:blipFill>
          <a:blip r:embed="rId1"/>
          <a:stretch/>
        </p:blipFill>
        <p:spPr>
          <a:xfrm>
            <a:off x="4876920" y="457200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tatic.ddmcdn.com/gif/irish-moss-1.jpg"/>
          <p:cNvPicPr/>
          <p:nvPr/>
        </p:nvPicPr>
        <p:blipFill>
          <a:blip r:embed="rId2"/>
          <a:stretch/>
        </p:blipFill>
        <p:spPr>
          <a:xfrm>
            <a:off x="7010280" y="4572000"/>
            <a:ext cx="19432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2" name="Picture 3" descr="http://images.tutorvista.com/content/biotic-community/lithosere-trends-sucession.jpeg"/>
            <p:cNvPicPr/>
            <p:nvPr/>
          </p:nvPicPr>
          <p:blipFill>
            <a:blip r:embed="rId3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" name="Straight Arrow Connector 8"/>
          <p:cNvCxnSpPr>
            <a:stCxn id="58" idx="0"/>
          </p:cNvCxnSpPr>
          <p:nvPr/>
        </p:nvCxnSpPr>
        <p:spPr>
          <a:xfrm flipV="1">
            <a:off x="2551680" y="3276000"/>
            <a:ext cx="1028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502920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herbs die, they are decomposed and add nutrients to the s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es a layer of organic matter on surfa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helps the germination of grasses such as Poa and Eleu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VC-011F"/>
          <p:cNvPicPr/>
          <p:nvPr/>
        </p:nvPicPr>
        <p:blipFill>
          <a:blip r:embed="rId1"/>
          <a:stretch/>
        </p:blipFill>
        <p:spPr>
          <a:xfrm>
            <a:off x="133200" y="3906720"/>
            <a:ext cx="2244960" cy="23353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"/>
          <p:cNvSpPr/>
          <p:nvPr/>
        </p:nvSpPr>
        <p:spPr>
          <a:xfrm>
            <a:off x="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ock continues to break down, soil continues to thic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bs will start to grow when the soil is thick enou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MVC-008F"/>
          <p:cNvPicPr/>
          <p:nvPr/>
        </p:nvPicPr>
        <p:blipFill>
          <a:blip r:embed="rId3"/>
          <a:stretch/>
        </p:blipFill>
        <p:spPr>
          <a:xfrm>
            <a:off x="6754680" y="3602160"/>
            <a:ext cx="2181240" cy="2268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>
            <a:stCxn id="71" idx="0"/>
          </p:cNvCxnSpPr>
          <p:nvPr/>
        </p:nvCxnSpPr>
        <p:spPr>
          <a:xfrm flipV="1">
            <a:off x="1827720" y="2895480"/>
            <a:ext cx="25916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1"/>
          <p:cNvCxnSpPr/>
          <p:nvPr/>
        </p:nvCxnSpPr>
        <p:spPr>
          <a:xfrm flipH="1" flipV="1">
            <a:off x="4876200" y="2971440"/>
            <a:ext cx="2362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ough the growth of these species, the rock become more weathered as the roots break up the lock layer and develop the soil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VC-004F"/>
          <p:cNvPicPr/>
          <p:nvPr/>
        </p:nvPicPr>
        <p:blipFill>
          <a:blip r:embed="rId1"/>
          <a:stretch/>
        </p:blipFill>
        <p:spPr>
          <a:xfrm>
            <a:off x="347760" y="5278320"/>
            <a:ext cx="27302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7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Straight Arrow Connector 8"/>
          <p:cNvCxnSpPr>
            <a:stCxn id="82" idx="0"/>
          </p:cNvCxnSpPr>
          <p:nvPr/>
        </p:nvCxnSpPr>
        <p:spPr>
          <a:xfrm flipH="1" flipV="1">
            <a:off x="5943240" y="2742840"/>
            <a:ext cx="991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4"/>
          <p:cNvSpPr/>
          <p:nvPr/>
        </p:nvSpPr>
        <p:spPr>
          <a:xfrm>
            <a:off x="5257800" y="4038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ws shrub roots to grow further into the rock layer, shrubs such as Rhus and Caparis begin to gr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teline.fr/var/teline/storage/images/teline/photographies/toutes-les-familles/anacardiaceae/rhus-albida/rhus-albida-3/2016-1-fre-FR/Rhus-albida-3.jpg"/>
          <p:cNvPicPr/>
          <p:nvPr/>
        </p:nvPicPr>
        <p:blipFill>
          <a:blip r:embed="rId3"/>
          <a:stretch/>
        </p:blipFill>
        <p:spPr>
          <a:xfrm>
            <a:off x="5626080" y="4973760"/>
            <a:ext cx="2908440" cy="28540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8"/>
          <p:cNvCxnSpPr/>
          <p:nvPr/>
        </p:nvCxnSpPr>
        <p:spPr>
          <a:xfrm flipV="1">
            <a:off x="1904040" y="2666520"/>
            <a:ext cx="388692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soil becomes rich enough, deciduous trees start to g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s are shed each year and are degraded to add nutrients to the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vc-005f"/>
          <p:cNvPicPr/>
          <p:nvPr/>
        </p:nvPicPr>
        <p:blipFill>
          <a:blip r:embed="rId1"/>
          <a:stretch/>
        </p:blipFill>
        <p:spPr>
          <a:xfrm>
            <a:off x="3706920" y="4443480"/>
            <a:ext cx="2163600" cy="3389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8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ime, the vegetation becomes mesophytic  (only needing a small amount of water) Finally, a dynamic equilibrium between the abiotic and biotic factors is reach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8"/>
          <p:cNvCxnSpPr>
            <a:stCxn id="86" idx="0"/>
          </p:cNvCxnSpPr>
          <p:nvPr/>
        </p:nvCxnSpPr>
        <p:spPr>
          <a:xfrm flipV="1">
            <a:off x="2133720" y="2742480"/>
            <a:ext cx="487728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Straight Arrow Connector 9"/>
          <p:cNvCxnSpPr>
            <a:stCxn id="91" idx="0"/>
          </p:cNvCxnSpPr>
          <p:nvPr/>
        </p:nvCxnSpPr>
        <p:spPr>
          <a:xfrm flipH="1" flipV="1">
            <a:off x="7238160" y="2894760"/>
            <a:ext cx="2293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 Forest - The End of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a m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ynamic equilibrium between the biotic and abiotic factors is reach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MVC-006F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uccess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43200" y="1371600"/>
            <a:ext cx="373392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imary Succession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occurs  over the course of many thousands of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ock must be broken down to form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chens are the pioneer organisms that first live on bare r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s soil develops the types of plants and animals that inhabit the area graduall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Eventually a climax forest devel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1:15:46Z</dcterms:created>
  <dc:creator>Gateway Valued Customer</dc:creator>
  <dc:description/>
  <dc:language>en-US</dc:language>
  <cp:lastModifiedBy>sbukit</cp:lastModifiedBy>
  <dcterms:modified xsi:type="dcterms:W3CDTF">2012-11-07T01:49:05Z</dcterms:modified>
  <cp:revision>16</cp:revision>
  <dc:subject/>
  <dc:title>Primary Succession </dc:title>
</cp:coreProperties>
</file>